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6B76-A315-4EEB-8084-8878A8075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7125-89AE-434F-8036-727088DA4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CEFA-5A35-4DAB-A6AA-0207F6567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7F74-9644-4FA3-9DDB-DADAB374D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5D12-769E-4A0D-87DF-D73C8EFE1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A69E-8509-4FCB-A483-170D22335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4165-E1C3-4F84-ACF5-E9746FB0A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5CDA-C193-4296-9293-C33E75BB5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D531-E41C-4B59-BCA7-57B4E0F55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EEE8-1F4B-47FE-BE03-B1F428FE2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F7FD-DED1-4938-90CC-8E2FE8443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83CA-C5DA-425A-AD7F-36B4A4EA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55454-148F-4EB8-82D1-A334E7680B4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5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8840" y="1447920"/>
            <a:ext cx="7206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What Can Be Don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About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Selection Bia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Qualitativel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7238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3911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7848360" cy="14475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33520" y="2438280"/>
            <a:ext cx="78483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467480" cy="1371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914400" y="2575080"/>
            <a:ext cx="7467480" cy="33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6201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4674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3915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543800" cy="17305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85800" y="2286000"/>
            <a:ext cx="7543800" cy="1038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685800" y="3276720"/>
            <a:ext cx="75438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315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543800" cy="17305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85800" y="2286000"/>
            <a:ext cx="7543800" cy="12193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85800" y="3276720"/>
            <a:ext cx="75438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543800" cy="17305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85800" y="2286000"/>
            <a:ext cx="7543800" cy="10065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85800" y="3276720"/>
            <a:ext cx="754380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78487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19760" cy="18288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762120" y="2514600"/>
            <a:ext cx="7619760" cy="1089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762120" y="3581280"/>
            <a:ext cx="76197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19760" cy="18288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762120" y="2438280"/>
            <a:ext cx="7619760" cy="13716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838080" y="3809880"/>
            <a:ext cx="75438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19760" cy="18288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762120" y="2514600"/>
            <a:ext cx="7619760" cy="14479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838080" y="3962520"/>
            <a:ext cx="75438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6201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74674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19760" cy="55627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934320" y="6019920"/>
            <a:ext cx="144756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6964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543800" cy="1905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838080" y="3048120"/>
            <a:ext cx="75438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391520" cy="1828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143000" y="2666880"/>
            <a:ext cx="731520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3911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23T15:11:11Z</dcterms:modified>
  <cp:revision>213</cp:revision>
  <dc:subject/>
  <dc:title>Slide 1</dc:title>
</cp:coreProperties>
</file>